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7.xml.rels" ContentType="application/vnd.openxmlformats-package.relationships+xml"/>
  <Override PartName="/ppt/notesSlides/_rels/notesSlide90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96.xml.rels" ContentType="application/vnd.openxmlformats-package.relationships+xml"/>
  <Override PartName="/ppt/notesSlides/_rels/notesSlide9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94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95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89.xml.rels" ContentType="application/vnd.openxmlformats-package.relationships+xml"/>
  <Override PartName="/ppt/notesSlides/_rels/notesSlide9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99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8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92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97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96.xml" ContentType="application/vnd.openxmlformats-officedocument.presentationml.notesSlide+xml"/>
  <Override PartName="/ppt/notesSlides/notesSlide95.xml" ContentType="application/vnd.openxmlformats-officedocument.presentationml.notesSlide+xml"/>
  <Override PartName="/ppt/notesSlides/notesSlide94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93.xml" ContentType="application/vnd.openxmlformats-officedocument.presentationml.notesSlide+xml"/>
  <Override PartName="/ppt/notesSlides/notesSlide92.xml" ContentType="application/vnd.openxmlformats-officedocument.presentationml.notesSlide+xml"/>
  <Override PartName="/ppt/notesSlides/notesSlide91.xml" ContentType="application/vnd.openxmlformats-officedocument.presentationml.notesSlide+xml"/>
  <Override PartName="/ppt/notesSlides/notesSlide90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9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97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_rels/slide9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54E49-A581-487F-8C31-497748F1D8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89.xml.rels><?xml version="1.0" encoding="UTF-8"?>
<Relationships xmlns="http://schemas.openxmlformats.org/package/2006/relationships"><Relationship Id="rId1" Type="http://schemas.openxmlformats.org/officeDocument/2006/relationships/slide" Target="../slides/slide89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_rels/notesSlide91.xml.rels><?xml version="1.0" encoding="UTF-8"?>
<Relationships xmlns="http://schemas.openxmlformats.org/package/2006/relationships"><Relationship Id="rId1" Type="http://schemas.openxmlformats.org/officeDocument/2006/relationships/slide" Target="../slides/slide91.xml"/><Relationship Id="rId2" Type="http://schemas.openxmlformats.org/officeDocument/2006/relationships/notesMaster" Target="../notesMasters/notesMaster1.xml"/>
</Relationships>
</file>

<file path=ppt/notesSlides/_rels/notesSlide92.xml.rels><?xml version="1.0" encoding="UTF-8"?>
<Relationships xmlns="http://schemas.openxmlformats.org/package/2006/relationships"><Relationship Id="rId1" Type="http://schemas.openxmlformats.org/officeDocument/2006/relationships/slide" Target="../slides/slide92.xml"/><Relationship Id="rId2" Type="http://schemas.openxmlformats.org/officeDocument/2006/relationships/notesMaster" Target="../notesMasters/notesMaster1.xml"/>
</Relationships>
</file>

<file path=ppt/notesSlides/_rels/notesSlide93.xml.rels><?xml version="1.0" encoding="UTF-8"?>
<Relationships xmlns="http://schemas.openxmlformats.org/package/2006/relationships"><Relationship Id="rId1" Type="http://schemas.openxmlformats.org/officeDocument/2006/relationships/slide" Target="../slides/slide93.xml"/><Relationship Id="rId2" Type="http://schemas.openxmlformats.org/officeDocument/2006/relationships/notesMaster" Target="../notesMasters/notesMaster1.xml"/>
</Relationships>
</file>

<file path=ppt/notesSlides/_rels/notesSlide94.xml.rels><?xml version="1.0" encoding="UTF-8"?>
<Relationships xmlns="http://schemas.openxmlformats.org/package/2006/relationships"><Relationship Id="rId1" Type="http://schemas.openxmlformats.org/officeDocument/2006/relationships/slide" Target="../slides/slide94.xml"/><Relationship Id="rId2" Type="http://schemas.openxmlformats.org/officeDocument/2006/relationships/notesMaster" Target="../notesMasters/notesMaster1.xml"/>
</Relationships>
</file>

<file path=ppt/notesSlides/_rels/notesSlide95.xml.rels><?xml version="1.0" encoding="UTF-8"?>
<Relationships xmlns="http://schemas.openxmlformats.org/package/2006/relationships"><Relationship Id="rId1" Type="http://schemas.openxmlformats.org/officeDocument/2006/relationships/slide" Target="../slides/slide95.xml"/><Relationship Id="rId2" Type="http://schemas.openxmlformats.org/officeDocument/2006/relationships/notesMaster" Target="../notesMasters/notesMaster1.xml"/>
</Relationships>
</file>

<file path=ppt/notesSlides/_rels/notesSlide96.xml.rels><?xml version="1.0" encoding="UTF-8"?>
<Relationships xmlns="http://schemas.openxmlformats.org/package/2006/relationships"><Relationship Id="rId1" Type="http://schemas.openxmlformats.org/officeDocument/2006/relationships/slide" Target="../slides/slide96.xml"/><Relationship Id="rId2" Type="http://schemas.openxmlformats.org/officeDocument/2006/relationships/notesMaster" Target="../notesMasters/notesMaster1.xml"/>
</Relationships>
</file>

<file path=ppt/notesSlides/_rels/notesSlide97.xml.rels><?xml version="1.0" encoding="UTF-8"?>
<Relationships xmlns="http://schemas.openxmlformats.org/package/2006/relationships"><Relationship Id="rId1" Type="http://schemas.openxmlformats.org/officeDocument/2006/relationships/slide" Target="../slides/slide97.xml"/><Relationship Id="rId2" Type="http://schemas.openxmlformats.org/officeDocument/2006/relationships/notesMaster" Target="../notesMasters/notesMaster1.xml"/>
</Relationships>
</file>

<file path=ppt/notesSlides/_rels/notesSlide98.xml.rels><?xml version="1.0" encoding="UTF-8"?>
<Relationships xmlns="http://schemas.openxmlformats.org/package/2006/relationships"><Relationship Id="rId1" Type="http://schemas.openxmlformats.org/officeDocument/2006/relationships/slide" Target="../slides/slide98.xml"/><Relationship Id="rId2" Type="http://schemas.openxmlformats.org/officeDocument/2006/relationships/notesMaster" Target="../notesMasters/notesMaster1.xml"/>
</Relationships>
</file>

<file path=ppt/notesSlides/_rels/notesSlide99.xml.rels><?xml version="1.0" encoding="UTF-8"?>
<Relationships xmlns="http://schemas.openxmlformats.org/package/2006/relationships"><Relationship Id="rId1" Type="http://schemas.openxmlformats.org/officeDocument/2006/relationships/slide" Target="../slides/slide9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94CE8-836E-42DF-B0AA-BAA23E50C6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1365D-A8D1-4E47-94DE-445E78F932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o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6027A-E8B6-4C21-9C08-564BD49D20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o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7F8EA-6CDF-4F0F-BA55-0B6A5E8C13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o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40204-6BFD-4749-A778-DCBA004A99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o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CCFA4-E8AC-4006-90AE-B57380D87A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o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EE028-4232-41FD-AEC4-7D512EFD3F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o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F4490-A868-4FF4-9AD5-E75623CC30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o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02D3E-4D03-477D-9173-85041F8ABE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o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F2455-69A8-48F3-89DF-AE55A4E51D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o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7B249-62E3-4A00-8A35-F44E2F5961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o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192A9-A3D6-4441-925C-E64B9B43E7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o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A8439-73E7-49FE-9A8F-06F5853E5D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o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F5E53-5813-4F70-8CD4-F877780300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o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A16ED-27E9-4631-9891-7771299590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o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5B2B5-6BCC-429E-B836-57FD74916D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o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C2E33-39C2-4BFD-A320-43EDB6EAFF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o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1D01F-2654-452A-A2FF-72B8E3C945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o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CC9CA-E24B-429B-9E83-8DD34F8129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o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8A6F2-0F51-4BAE-A114-B7475814DD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o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40509-DD55-464D-9ADE-1A128B575C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o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B5077-A114-4CD9-A85C-E20FD2657B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o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16897-9162-41E7-9E63-F4F1C3F8F0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o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76C4C-7034-4AAF-B070-6C30799FCA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o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6B084-4C42-4DBB-82CD-31E377FC6A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o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E2941-750C-44F9-B6B1-D15475B429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o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FA1E5-F0BA-4B93-9B87-4A2C451565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o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4304C-36F5-4FD7-BDDC-73F86465C2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o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6F39E-191A-4790-868F-B178D23112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o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1F34A-84D7-4713-9649-C45DA71B67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o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40F8C-F64E-49FC-AFFF-E2C051557D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o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01306-335C-40D9-9AD7-EC51B66CB3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o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919A9-B522-47FE-A7CF-3EA306E549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o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5B6EC-1DC2-4A82-BF15-D772AB1AE0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o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F33EB-D150-4087-B3F8-56CBA291A4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o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624A8-85AE-4B08-A8F0-838C7B6913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o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3A4BB-E527-49DC-B841-662E5D1CFC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o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DE7A1-F35B-4694-825A-20F291CDB0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o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91471-E5ED-4936-A596-7C1E88771B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o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8D76A-F0F8-4DA7-9A53-0E61A26885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o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A2BDB-4954-473B-950C-03DDF178B9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o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9C91E-BE29-4963-8D43-ADEF802659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o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7247C-A890-496E-883A-884AE67D5A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o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CAEC4-9AD1-4476-B428-BD0319D439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o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84F96-22C8-4542-B549-B4F1F6CDAD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o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6A9AD-DDC7-43AD-93DE-254C4E861D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o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9F3AA-2FDF-4957-9BB5-95FDCDBD2E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o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7ED24-8E95-455C-941A-6C86FE969E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o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F72F5-E6E2-422D-867A-CC568731EF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o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E9A3B-EFED-4C6C-865E-C45DD32BB8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o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F9818-4AB2-44FB-B8CC-2D027B26A5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o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236AB-9A7F-457E-97C2-9027A55225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o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A2EF4-2A23-4211-8E6A-E3930EF845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o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0D9E6-5745-4E52-ABCB-818A19A335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o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FFAB9-F023-4B63-875B-D2FAA6C7E1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o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D5E13-E52B-45D5-BB40-6280AB52CD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o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4FBFD-CB4B-4C60-9A93-0A034CBA7E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o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9701D-90B1-45E4-8FDB-D704DB4514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o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BDD7B-D8BC-4070-8AA4-1359FB6D9E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o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F6DA5-AE78-4397-931A-8D555160C8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o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AFE04-1ADB-4366-A582-E43547B71B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o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6DFBC-C6B8-46FD-B682-14F9C0FF3E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o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02AE2-6E62-4CE2-B939-1D9B479EAE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o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90CA7-CA73-4FC6-9243-34F347FF6E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o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B96FD-5798-4F23-81F3-EBE0868432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o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F0A7B-8413-456D-966C-63C4FF328C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o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3C79F-C9EA-469D-A763-139E1A0ADE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o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8AAEA-0F89-4534-855E-0F88D1B6AB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o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7BB47-47EE-497B-B37A-1271068BA1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o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E5ED5-30B0-45C6-99F8-8D653CD0BB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o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B6D39-01F9-4AB9-8D9A-F636923DD4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o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74520-8155-452F-B2F8-D31665FF0D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o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170CA-6C61-4215-9A16-5C4AE449FE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o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F3473-34C3-4500-9F99-175FC59D0A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o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CBD0B-D383-4078-AD7F-381CC1061E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o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55A5C-BF16-47EB-940D-7F84016D44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o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2F277-D441-4E09-A0D7-9ACC58C69B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o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95DBD-DC0B-4E05-BEF6-F5BEE64D53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o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7A0A5-D37D-47BD-98C7-3F62BA73F6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o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63F1C-739A-4FE0-BB5D-899F07A447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o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E4F6C-53AB-4378-BD8D-2382920760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o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4681F-0B79-4B5E-B702-6BD374126C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o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5A00B-B6C7-40E7-A4F9-3AC458493A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o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40BF5-6905-42FC-B880-4C5C0472BB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o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2D921-7ECC-469C-9442-68AF7723EF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o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A6C81-6F11-421E-8857-4C7C40EACC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o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8E6D2-4DEA-4275-AA27-FDA713F6C4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o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FE5EF-270A-4060-AE32-7904FEBE1B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o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422C8-A954-49AF-9ACC-ECA91F66BA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o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C0DE6-26DB-468D-A7C2-922C56F738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o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D3AE0-6ED0-4C40-A078-5508E1FE7F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o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7667A-B6CF-489A-AA74-D571778CBF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o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79F83-DDD8-4203-BA09-0F582D1D33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o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B6409-9C12-4FEB-AAE8-464FCFDBC1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o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3FD81-3034-4CD8-AAFA-4FB6E5AB19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o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BB59D-2764-4573-9C14-F22D31B5EA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o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F1D6D-5124-4F42-9AAA-EF34604DD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1DDDC-1101-47B7-AA37-6062DDA49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90B79-B068-4B0D-9A5E-D4EAD736E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9F11B-7C47-4AF2-88AA-19B9F95FF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069DE-9EB2-4FF5-AD69-A0EC9D3FE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C8F2D-BB17-42D3-AA0E-C0D000459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CDFF5-2152-4194-BB8B-274EB44FC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48C00-74CC-4268-90FE-0D2C04EDF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C5DB3-4B64-416D-80D8-4601F379D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D586A-9C9A-431D-907E-BED3B5FEF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34412-0B96-41AA-8F9B-69B0B0D2A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23B76-03E0-44BF-BDB3-54F0B0F7F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09571-EE24-46A8-9B2E-E928B4E138CA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7AD6AE53-A3DF-4F0C-8E9A-49340E687991}" type="datetime12">
              <a:rPr b="0" lang="en-US" sz="1400" spc="-1" strike="noStrike">
                <a:solidFill>
                  <a:srgbClr val="000000"/>
                </a:solidFill>
                <a:latin typeface="Arial"/>
              </a:rPr>
              <a:t>08:51 AM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m Spring Final Re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54082-6FAF-4661-ADE0-98F95707EC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0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4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6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7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8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Footer Placeholder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m Spring Final Re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C7ADD-640F-4044-AC2D-0767904C17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609480" y="1905120"/>
            <a:ext cx="79250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aeaea"/>
                </a:solidFill>
                <a:latin typeface="Arial"/>
              </a:rPr>
              <a:t>Chemistry Spring Semester Review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m Spring Final Re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D2788-3425-4EFD-833A-27BDC92C8A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eaeaea"/>
                </a:solidFill>
                <a:uFillTx/>
                <a:latin typeface="Arial"/>
              </a:rPr>
              <a:t>Review of the Units</a:t>
            </a:r>
            <a:r>
              <a:rPr b="1" lang="en-US" sz="6000" spc="-1" strike="noStrike">
                <a:solidFill>
                  <a:srgbClr val="eaeaea"/>
                </a:solidFill>
                <a:latin typeface="Arial"/>
              </a:rPr>
              <a:t>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61048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aeaea"/>
                </a:solidFill>
                <a:latin typeface="Arial"/>
              </a:rPr>
              <a:t>Unit 13: Acids and bas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eaeaea"/>
                </a:solidFill>
                <a:uFillTx/>
                <a:latin typeface="Arial"/>
              </a:rPr>
              <a:t>Other Stuff to Review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eaeaea"/>
                </a:solidFill>
                <a:latin typeface="Arial"/>
              </a:rPr>
              <a:t>CH</a:t>
            </a:r>
            <a:r>
              <a:rPr b="1" lang="en-US" sz="4800" spc="-1" strike="noStrike" baseline="-25000">
                <a:solidFill>
                  <a:srgbClr val="eaeaea"/>
                </a:solidFill>
                <a:latin typeface="Arial"/>
              </a:rPr>
              <a:t>4 </a:t>
            </a:r>
            <a:r>
              <a:rPr b="1" lang="en-US" sz="4800" spc="-1" strike="noStrike">
                <a:solidFill>
                  <a:srgbClr val="eaeaea"/>
                </a:solidFill>
                <a:latin typeface="Arial"/>
              </a:rPr>
              <a:t>(g)  + 2 O</a:t>
            </a:r>
            <a:r>
              <a:rPr b="1" lang="en-US" sz="4800" spc="-1" strike="noStrike" baseline="-25000">
                <a:solidFill>
                  <a:srgbClr val="eaeaea"/>
                </a:solidFill>
                <a:latin typeface="Arial"/>
              </a:rPr>
              <a:t>2 </a:t>
            </a:r>
            <a:r>
              <a:rPr b="1" lang="en-US" sz="4800" spc="-1" strike="noStrike">
                <a:solidFill>
                  <a:srgbClr val="eaeaea"/>
                </a:solidFill>
                <a:latin typeface="Arial"/>
              </a:rPr>
              <a:t>(g)  </a:t>
            </a:r>
            <a:r>
              <a:rPr b="1" lang="en-US" sz="4800" spc="-1" strike="noStrike">
                <a:solidFill>
                  <a:srgbClr val="eaeaea"/>
                </a:solidFill>
                <a:latin typeface="Wingdings"/>
                <a:ea typeface="Wingdings"/>
              </a:rPr>
              <a:t></a:t>
            </a:r>
            <a:r>
              <a:rPr b="1" lang="en-US" sz="4800" spc="-1" strike="noStrike">
                <a:solidFill>
                  <a:srgbClr val="eaeaea"/>
                </a:solidFill>
                <a:latin typeface="Arial"/>
              </a:rPr>
              <a:t> CO</a:t>
            </a:r>
            <a:r>
              <a:rPr b="1" lang="en-US" sz="4800" spc="-1" strike="noStrike" baseline="-25000">
                <a:solidFill>
                  <a:srgbClr val="eaeaea"/>
                </a:solidFill>
                <a:latin typeface="Arial"/>
              </a:rPr>
              <a:t>2</a:t>
            </a:r>
            <a:r>
              <a:rPr b="1" lang="en-US" sz="4800" spc="-1" strike="noStrike">
                <a:solidFill>
                  <a:srgbClr val="eaeaea"/>
                </a:solidFill>
                <a:latin typeface="Arial"/>
              </a:rPr>
              <a:t> (g)   + 2 H</a:t>
            </a:r>
            <a:r>
              <a:rPr b="1" lang="en-US" sz="4800" spc="-1" strike="noStrike" baseline="-25000">
                <a:solidFill>
                  <a:srgbClr val="eaeaea"/>
                </a:solidFill>
                <a:latin typeface="Arial"/>
              </a:rPr>
              <a:t>2</a:t>
            </a:r>
            <a:r>
              <a:rPr b="1" lang="en-US" sz="4800" spc="-1" strike="noStrike">
                <a:solidFill>
                  <a:srgbClr val="eaeaea"/>
                </a:solidFill>
                <a:latin typeface="Arial"/>
              </a:rPr>
              <a:t>O (g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Arial"/>
              </a:rPr>
              <a:t>If 2.0 moles of methane react with excess oxygen, how many moles of water will be produce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eaeaea"/>
                </a:solidFill>
                <a:uFillTx/>
                <a:latin typeface="Arial"/>
              </a:rPr>
              <a:t>Other Stuff to Review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eaeaea"/>
                </a:solidFill>
                <a:latin typeface="Arial"/>
              </a:rPr>
              <a:t>CH</a:t>
            </a:r>
            <a:r>
              <a:rPr b="1" lang="en-US" sz="4800" spc="-1" strike="noStrike" baseline="-25000">
                <a:solidFill>
                  <a:srgbClr val="eaeaea"/>
                </a:solidFill>
                <a:latin typeface="Arial"/>
              </a:rPr>
              <a:t>4 </a:t>
            </a:r>
            <a:r>
              <a:rPr b="1" lang="en-US" sz="4800" spc="-1" strike="noStrike">
                <a:solidFill>
                  <a:srgbClr val="eaeaea"/>
                </a:solidFill>
                <a:latin typeface="Arial"/>
              </a:rPr>
              <a:t>(g)  + 2 O</a:t>
            </a:r>
            <a:r>
              <a:rPr b="1" lang="en-US" sz="4800" spc="-1" strike="noStrike" baseline="-25000">
                <a:solidFill>
                  <a:srgbClr val="eaeaea"/>
                </a:solidFill>
                <a:latin typeface="Arial"/>
              </a:rPr>
              <a:t>2 </a:t>
            </a:r>
            <a:r>
              <a:rPr b="1" lang="en-US" sz="4800" spc="-1" strike="noStrike">
                <a:solidFill>
                  <a:srgbClr val="eaeaea"/>
                </a:solidFill>
                <a:latin typeface="Arial"/>
              </a:rPr>
              <a:t>(g)  </a:t>
            </a:r>
            <a:r>
              <a:rPr b="1" lang="en-US" sz="4800" spc="-1" strike="noStrike">
                <a:solidFill>
                  <a:srgbClr val="eaeaea"/>
                </a:solidFill>
                <a:latin typeface="Wingdings"/>
                <a:ea typeface="Wingdings"/>
              </a:rPr>
              <a:t></a:t>
            </a:r>
            <a:r>
              <a:rPr b="1" lang="en-US" sz="4800" spc="-1" strike="noStrike">
                <a:solidFill>
                  <a:srgbClr val="eaeaea"/>
                </a:solidFill>
                <a:latin typeface="Arial"/>
              </a:rPr>
              <a:t>   CO</a:t>
            </a:r>
            <a:r>
              <a:rPr b="1" lang="en-US" sz="4800" spc="-1" strike="noStrike" baseline="-25000">
                <a:solidFill>
                  <a:srgbClr val="eaeaea"/>
                </a:solidFill>
                <a:latin typeface="Arial"/>
              </a:rPr>
              <a:t>2</a:t>
            </a:r>
            <a:r>
              <a:rPr b="1" lang="en-US" sz="4800" spc="-1" strike="noStrike">
                <a:solidFill>
                  <a:srgbClr val="eaeaea"/>
                </a:solidFill>
                <a:latin typeface="Arial"/>
              </a:rPr>
              <a:t> (g)   +   2 H</a:t>
            </a:r>
            <a:r>
              <a:rPr b="1" lang="en-US" sz="4800" spc="-1" strike="noStrike" baseline="-25000">
                <a:solidFill>
                  <a:srgbClr val="eaeaea"/>
                </a:solidFill>
                <a:latin typeface="Arial"/>
              </a:rPr>
              <a:t>2</a:t>
            </a:r>
            <a:r>
              <a:rPr b="1" lang="en-US" sz="4800" spc="-1" strike="noStrike">
                <a:solidFill>
                  <a:srgbClr val="eaeaea"/>
                </a:solidFill>
                <a:latin typeface="Arial"/>
              </a:rPr>
              <a:t>O (g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aeaea"/>
                </a:solidFill>
                <a:latin typeface="Arial"/>
              </a:rPr>
              <a:t>Ans:  4.0 mol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m Spring Final Re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FC3B4-CDB7-477C-9C92-6071D1EF01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eaeaea"/>
                </a:solidFill>
                <a:uFillTx/>
                <a:latin typeface="Arial"/>
              </a:rPr>
              <a:t>The En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Don’t forget to write your version on your answer shee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Bring paper and pencil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Calculators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Good Luck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3" name="James Brown- Get up Off of That Thing.mp3" descr=""/>
          <p:cNvPicPr/>
          <p:nvPr/>
        </p:nvPicPr>
        <p:blipFill>
          <a:blip r:embed="rId1"/>
          <a:stretch/>
        </p:blipFill>
        <p:spPr>
          <a:xfrm>
            <a:off x="7848720" y="60199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" dur="250934" fill="hold"/>
                                        <p:tgtEl>
                                          <p:spTgt spid="4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m Spring Final Re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D86CE-2C19-40F4-943F-ED83799155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eaeaea"/>
                </a:solidFill>
                <a:uFillTx/>
                <a:latin typeface="Arial"/>
              </a:rPr>
              <a:t>Review of the Units</a:t>
            </a:r>
            <a:r>
              <a:rPr b="1" lang="en-US" sz="6000" spc="-1" strike="noStrike">
                <a:solidFill>
                  <a:srgbClr val="eaeaea"/>
                </a:solidFill>
                <a:latin typeface="Arial"/>
              </a:rPr>
              <a:t>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aeaea"/>
                </a:solidFill>
                <a:latin typeface="Arial"/>
              </a:rPr>
              <a:t>Unit 14: Electrochem and nuclear che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m Spring Final Re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E9D4E-A090-41D5-B17A-1871E5DD5D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eaeaea"/>
                </a:solidFill>
                <a:uFillTx/>
                <a:latin typeface="Arial"/>
              </a:rPr>
              <a:t>Review of the Units</a:t>
            </a:r>
            <a:r>
              <a:rPr b="1" lang="en-US" sz="6000" spc="-1" strike="noStrike">
                <a:solidFill>
                  <a:srgbClr val="eaeaea"/>
                </a:solidFill>
                <a:latin typeface="Arial"/>
              </a:rPr>
              <a:t>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aeaea"/>
                </a:solidFill>
                <a:latin typeface="Arial"/>
              </a:rPr>
              <a:t>(Unit 15): Organic and biochemistr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Footer Placeholder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m Spring Final Re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D12C6-E9E5-4759-A3DF-925A7DC6CD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533160" y="2666880"/>
            <a:ext cx="830556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aeaea"/>
                </a:solidFill>
                <a:latin typeface="Arial"/>
              </a:rPr>
              <a:t>Unit 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m Spring Final Re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64F7D-09BE-473A-8FF8-AE404462FB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eaeaea"/>
                </a:solidFill>
                <a:uFillTx/>
                <a:latin typeface="Arial"/>
              </a:rPr>
              <a:t>Unit 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228240" y="144756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Know the properties of gases.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Know the difference between a real gas and an idea ga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m Spring Final Re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60A11-0401-48C4-83E0-A002C6D7E7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eaeaea"/>
                </a:solidFill>
                <a:uFillTx/>
                <a:latin typeface="Arial"/>
              </a:rPr>
              <a:t>Unit 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228240" y="1447560"/>
            <a:ext cx="89154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Know the K.M.T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Behaviors of gases can be determined by using gas law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m Spring Final Re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50AEF-4A1B-48D1-8502-D375DA026D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eaeaea"/>
                </a:solidFill>
                <a:uFillTx/>
                <a:latin typeface="Arial"/>
              </a:rPr>
              <a:t>Unit 8: Gas Law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0" y="14479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Boyle’s (P,V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Charles’  (V,T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Gay-Lussac’s (P, T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Combined (P,V, T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Avogadro’s (V, n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m Spring Final Re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DF478-59E1-4D9C-8A33-6F30437AD9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eaeaea"/>
                </a:solidFill>
                <a:uFillTx/>
                <a:latin typeface="Arial"/>
              </a:rPr>
              <a:t>Unit 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0" y="14479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Ideal: PV=nR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Dalton’s: P</a:t>
            </a:r>
            <a:r>
              <a:rPr b="1" lang="en-US" sz="5400" spc="-1" strike="noStrike" baseline="-25000">
                <a:solidFill>
                  <a:srgbClr val="eaeaea"/>
                </a:solidFill>
                <a:latin typeface="Arial"/>
              </a:rPr>
              <a:t>1</a:t>
            </a: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 + P</a:t>
            </a:r>
            <a:r>
              <a:rPr b="1" lang="en-US" sz="5400" spc="-1" strike="noStrike" baseline="-25000">
                <a:solidFill>
                  <a:srgbClr val="eaeaea"/>
                </a:solidFill>
                <a:latin typeface="Arial"/>
              </a:rPr>
              <a:t>2</a:t>
            </a: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 = P</a:t>
            </a:r>
            <a:r>
              <a:rPr b="1" lang="en-US" sz="5400" spc="-1" strike="noStrike" baseline="-25000">
                <a:solidFill>
                  <a:srgbClr val="eaeaea"/>
                </a:solidFill>
                <a:latin typeface="Arial"/>
              </a:rPr>
              <a:t>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Graham’s Law of Effusi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m Spring Final Re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F9236-AB0B-4C63-A2A3-C58B9F41EE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eaeaea"/>
                </a:solidFill>
                <a:uFillTx/>
                <a:latin typeface="Arial"/>
              </a:rPr>
              <a:t>Unit 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228240" y="1447560"/>
            <a:ext cx="89154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At STP, one mole of gas = 22.4 liters.  The T is 273 K and P is 101.3 kPa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m Spring Final Re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2FD12-AA6E-464D-8E76-766AC40B00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eaeaea"/>
                </a:solidFill>
                <a:uFillTx/>
                <a:latin typeface="Arial"/>
              </a:rPr>
              <a:t>Unit 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228240" y="1447560"/>
            <a:ext cx="89154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Gas Collection Lab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How to calculate percent error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(act. – theo)/theo x 100%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m Spring Final Re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20208-F2E7-4534-B4DE-BE85E57BEA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eaeaea"/>
                </a:solidFill>
                <a:uFillTx/>
                <a:latin typeface="Arial"/>
              </a:rPr>
              <a:t>Test Forma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90 multiple choic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Each question holds the equal weigh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Answer sheet (pencil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~2 hour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Footer Placeholder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m Spring Final Re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37209-D45F-46FE-AF8F-40E07A5AD7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533160" y="2666880"/>
            <a:ext cx="830556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aeaea"/>
                </a:solidFill>
                <a:latin typeface="Arial"/>
              </a:rPr>
              <a:t>Unit 9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m Spring Final Re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A89BE-0FF6-4E51-9EAF-89F5D06386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eaeaea"/>
                </a:solidFill>
                <a:uFillTx/>
                <a:latin typeface="Arial"/>
              </a:rPr>
              <a:t>Unit 9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0" y="14479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Key terms to know: critical pt., normal f.p., normal b.p., triple pt., critical pressur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m Spring Final Re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A702C-1E89-4019-A41C-46836B3FFA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-38088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eaeaea"/>
                </a:solidFill>
                <a:uFillTx/>
                <a:latin typeface="Arial"/>
              </a:rPr>
              <a:t>Unit 9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0" y="914400"/>
            <a:ext cx="9144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More terms: liquid, solid, gas, vaporization, boiling, freezing, deposition, melting, condensation, sublimation &amp; evaporati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m Spring Final Re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CA468-7612-494A-BB75-E17DD590D4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eaeaea"/>
                </a:solidFill>
                <a:uFillTx/>
                <a:latin typeface="Arial"/>
              </a:rPr>
              <a:t>Unit 9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228240" y="1447560"/>
            <a:ext cx="89154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Intermolcular forces: (strong to weak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Hydrogen (HNOF)</a:t>
            </a:r>
            <a:r>
              <a:rPr b="1" lang="en-US" sz="5400" spc="-1" strike="noStrike">
                <a:solidFill>
                  <a:srgbClr val="eaeaea"/>
                </a:solidFill>
                <a:latin typeface="Wingdings"/>
                <a:ea typeface="Wingdings"/>
              </a:rPr>
              <a:t></a:t>
            </a: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 dipole-dipole </a:t>
            </a:r>
            <a:r>
              <a:rPr b="1" lang="en-US" sz="5400" spc="-1" strike="noStrike">
                <a:solidFill>
                  <a:srgbClr val="eaeaea"/>
                </a:solidFill>
                <a:latin typeface="Wingdings"/>
                <a:ea typeface="Wingdings"/>
              </a:rPr>
              <a:t></a:t>
            </a: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 London forc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m Spring Final Re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4D38D-24F2-4E14-A6E3-242C2D0C9D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eaeaea"/>
                </a:solidFill>
                <a:uFillTx/>
                <a:latin typeface="Arial"/>
              </a:rPr>
              <a:t>Unit 9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228240" y="1447560"/>
            <a:ext cx="89154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Mixtures: homogeneous includes solution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Heterogeneous includes suspensions and colloid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m Spring Final Re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FA6D3-51D8-4B39-BCEC-23D3AECA43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eaeaea"/>
                </a:solidFill>
                <a:uFillTx/>
                <a:latin typeface="Arial"/>
              </a:rPr>
              <a:t>Unit 9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228240" y="1447560"/>
            <a:ext cx="89154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What increase the rate of dissolving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m Spring Final Re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243BF-BCC0-4F98-BD27-16E8510599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eaeaea"/>
                </a:solidFill>
                <a:uFillTx/>
                <a:latin typeface="Arial"/>
              </a:rPr>
              <a:t>Unit 9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228240" y="1447560"/>
            <a:ext cx="89154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Types of solids: metallic, ionic, covalent network and molecula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m Spring Final Re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EAD73-8705-43EF-969E-B08FED3827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eaeaea"/>
                </a:solidFill>
                <a:uFillTx/>
                <a:latin typeface="Arial"/>
              </a:rPr>
              <a:t>Unit 9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228240" y="1447560"/>
            <a:ext cx="89154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Vapor pressure:  It’s higher if the boiling point is low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Depends on temperature and intermolecular forc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m Spring Final Re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81712-34D5-4082-B2F5-C0631C156A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eaeaea"/>
                </a:solidFill>
                <a:uFillTx/>
                <a:latin typeface="Arial"/>
              </a:rPr>
              <a:t>Unit 9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0" y="14479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Evaporation takes place when there’s enough kinetic energy for molecules to overcome their intermolecular forc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Footer Placeholder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m Spring Final Re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124C7-7962-4991-933F-B764463C4D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533160" y="2666880"/>
            <a:ext cx="830556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aeaea"/>
                </a:solidFill>
                <a:latin typeface="Arial"/>
              </a:rPr>
              <a:t>Unit 1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m Spring Final Re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1FD53-ADCD-44CC-A6DC-5139F20D1F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eaeaea"/>
                </a:solidFill>
                <a:uFillTx/>
                <a:latin typeface="Arial"/>
              </a:rPr>
              <a:t>Final Schedul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6/1: Per. 1 and 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6/2: Per. 3 and 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6/3: Per. 2 and 6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m Spring Final Re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C263A-EAA5-45B4-B08D-9B2C108429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eaeaea"/>
                </a:solidFill>
                <a:uFillTx/>
                <a:latin typeface="Arial"/>
              </a:rPr>
              <a:t>Unit 1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0" y="14479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Solutions are made of a solute (minor) and a solvent (major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Saturated, unsaturated and supersaturate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m Spring Final Re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11C14-5A59-4079-87D1-5EF23EB06D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eaeaea"/>
                </a:solidFill>
                <a:uFillTx/>
                <a:latin typeface="Arial"/>
              </a:rPr>
              <a:t>Unit 1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0" y="1447920"/>
            <a:ext cx="9144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lnSpc>
                <a:spcPct val="90000"/>
              </a:lnSpc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“</a:t>
            </a: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like dissolves like”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Polar substance will dissolve other polar substances (water will dissolve salt, but not oil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m Spring Final Re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6463E-F356-4A26-8BA4-BD16E83422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eaeaea"/>
                </a:solidFill>
                <a:uFillTx/>
                <a:latin typeface="Arial"/>
              </a:rPr>
              <a:t>Unit 1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0" y="14479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Concentration measure how much solute is in a soluti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Molarity: moles/Liter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Molality: moles/kg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m Spring Final Re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D7332-DE71-42AF-8579-3702C5EEC1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eaeaea"/>
                </a:solidFill>
                <a:uFillTx/>
                <a:latin typeface="Arial"/>
              </a:rPr>
              <a:t>Unit 1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228240" y="1447560"/>
            <a:ext cx="89154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% Conc: mass solute/mass of solution x 100%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m Spring Final Re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947C3-4AF3-48B9-9E52-97DFA609C4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eaeaea"/>
                </a:solidFill>
                <a:uFillTx/>
                <a:latin typeface="Arial"/>
              </a:rPr>
              <a:t>Unit 1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228240" y="1447560"/>
            <a:ext cx="89154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Colligative properti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“</a:t>
            </a: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binding”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F.P. depression, B.P. elevation, osmotic pressure and V.P. lowering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m Spring Final Re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4CF6E-3A91-4F02-9B4A-0AFB0D8B6B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eaeaea"/>
                </a:solidFill>
                <a:uFillTx/>
                <a:latin typeface="Arial"/>
              </a:rPr>
              <a:t>Unit 1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228240" y="1447920"/>
            <a:ext cx="89154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lnSpc>
                <a:spcPct val="100000"/>
              </a:lnSpc>
              <a:spcBef>
                <a:spcPts val="1500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∆</a:t>
            </a:r>
            <a:r>
              <a:rPr b="1" lang="en-US" sz="60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T</a:t>
            </a:r>
            <a:r>
              <a:rPr b="1" i="1" lang="en-US" sz="6000" spc="-1" strike="noStrike" baseline="-25000">
                <a:solidFill>
                  <a:srgbClr val="eaeaea"/>
                </a:solidFill>
                <a:latin typeface="Times New Roman"/>
                <a:ea typeface="Times New Roman"/>
              </a:rPr>
              <a:t>f</a:t>
            </a:r>
            <a:r>
              <a:rPr b="1" i="1" lang="en-US" sz="60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</a:t>
            </a:r>
            <a:r>
              <a:rPr b="1" lang="en-US" sz="60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= K</a:t>
            </a:r>
            <a:r>
              <a:rPr b="1" i="1" lang="en-US" sz="6000" spc="-1" strike="noStrike" baseline="-25000">
                <a:solidFill>
                  <a:srgbClr val="eaeaea"/>
                </a:solidFill>
                <a:latin typeface="Times New Roman"/>
                <a:ea typeface="Times New Roman"/>
              </a:rPr>
              <a:t>f</a:t>
            </a:r>
            <a:r>
              <a:rPr b="1" lang="en-US" sz="60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x </a:t>
            </a:r>
            <a:r>
              <a:rPr b="1" i="1" lang="en-US" sz="60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Solubility rul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Dilution: M</a:t>
            </a:r>
            <a:r>
              <a:rPr b="1" lang="en-US" sz="5400" spc="-1" strike="noStrike" baseline="-25000">
                <a:solidFill>
                  <a:srgbClr val="eaeaea"/>
                </a:solidFill>
                <a:latin typeface="Arial"/>
              </a:rPr>
              <a:t>1</a:t>
            </a: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V</a:t>
            </a:r>
            <a:r>
              <a:rPr b="1" lang="en-US" sz="5400" spc="-1" strike="noStrike" baseline="-25000">
                <a:solidFill>
                  <a:srgbClr val="eaeaea"/>
                </a:solidFill>
                <a:latin typeface="Arial"/>
              </a:rPr>
              <a:t>1</a:t>
            </a: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 = M</a:t>
            </a:r>
            <a:r>
              <a:rPr b="1" lang="en-US" sz="5400" spc="-1" strike="noStrike" baseline="-25000">
                <a:solidFill>
                  <a:srgbClr val="eaeaea"/>
                </a:solidFill>
                <a:latin typeface="Arial"/>
              </a:rPr>
              <a:t>2</a:t>
            </a: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V</a:t>
            </a:r>
            <a:r>
              <a:rPr b="1" lang="en-US" sz="5400" spc="-1" strike="noStrike" baseline="-25000">
                <a:solidFill>
                  <a:srgbClr val="eaeaea"/>
                </a:solidFill>
                <a:latin typeface="Arial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Electrolytes: ions in soluti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Footer Placeholder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m Spring Final Re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5A927-44D4-484B-9829-44CC9B5AE5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33160" y="2666880"/>
            <a:ext cx="830556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aeaea"/>
                </a:solidFill>
                <a:latin typeface="Arial"/>
              </a:rPr>
              <a:t>Unit 1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m Spring Final Re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F0822-41A1-4912-8788-15AECD0E15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eaeaea"/>
                </a:solidFill>
                <a:uFillTx/>
                <a:latin typeface="Arial"/>
              </a:rPr>
              <a:t>Unit 1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228240" y="1447560"/>
            <a:ext cx="89154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lnSpc>
                <a:spcPct val="90000"/>
              </a:lnSpc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Heat vs. temperatur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Heat (Joules / cal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Temp (</a:t>
            </a:r>
            <a:r>
              <a:rPr b="1" lang="en-US" sz="5400" spc="-1" strike="noStrike" baseline="30000">
                <a:solidFill>
                  <a:srgbClr val="eaeaea"/>
                </a:solidFill>
                <a:latin typeface="Arial"/>
              </a:rPr>
              <a:t>o</a:t>
            </a: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C / K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m Spring Final Re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CB9F2-B1CE-4C87-8288-7124F39349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eaeaea"/>
                </a:solidFill>
                <a:uFillTx/>
                <a:latin typeface="Arial"/>
              </a:rPr>
              <a:t>Unit 1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0" y="14479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lnSpc>
                <a:spcPct val="90000"/>
              </a:lnSpc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Know about enthalpy, entropy and free energ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Enthalpy describes the amount of heat absorbed (+∆H) or released (+∆H) in a reacti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m Spring Final Re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8A64B-BC2E-40A6-8FD2-1B3BB5D83B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eaeaea"/>
                </a:solidFill>
                <a:uFillTx/>
                <a:latin typeface="Arial"/>
              </a:rPr>
              <a:t>Unit 1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0" y="14479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lnSpc>
                <a:spcPct val="90000"/>
              </a:lnSpc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Enthalpy cannot be directly measured.  So we measure the change in enthalpy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m Spring Final Re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1B194-0F07-44D2-A9BF-B4F2834B69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eaeaea"/>
                </a:solidFill>
                <a:uFillTx/>
                <a:latin typeface="Arial"/>
              </a:rPr>
              <a:t>Recommendation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134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Study old review sheet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134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Especially mult. choic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134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Know your ochem/biochem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134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Time your stoich problem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m Spring Final Re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EF832-8394-468F-A855-769E46E289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eaeaea"/>
                </a:solidFill>
                <a:uFillTx/>
                <a:latin typeface="Arial"/>
              </a:rPr>
              <a:t>Unit 1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228240" y="1447920"/>
            <a:ext cx="89154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Energy profile graph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Activated complex, change in enthalpy, presence of a catalyst, activation energ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m Spring Final Re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E780A-E05E-4FB3-B2F8-787009A5BD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0" y="-38088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eaeaea"/>
                </a:solidFill>
                <a:uFillTx/>
                <a:latin typeface="Arial"/>
              </a:rPr>
              <a:t>Unit 1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228240" y="990360"/>
            <a:ext cx="89154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+∆H = endothermic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- ∆H = exothermic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+∆S =  disord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-∆S =  ord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+∆G =  nonspontaneou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-∆G =  spontaneou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m Spring Final Re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D3192-1B02-4510-B60F-BC5A2BAD03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eaeaea"/>
                </a:solidFill>
                <a:uFillTx/>
                <a:latin typeface="Arial"/>
              </a:rPr>
              <a:t>Unit 1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228240" y="1447560"/>
            <a:ext cx="89154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Specific heat: the amount of heat needed to raise one gram of a substance one degree Celsius (or one Kelvin)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m Spring Final Re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46A92-BF6E-48EA-85B9-E4633B0CD4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eaeaea"/>
                </a:solidFill>
                <a:uFillTx/>
                <a:latin typeface="Arial"/>
              </a:rPr>
              <a:t>Unit 1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0" y="14479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Rate laws are determined by using the concentrations of reactants that influence the reaction tim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Slow step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Footer Placeholder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m Spring Final Re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DA746-94A0-4265-B839-090AC6AC24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533160" y="2666880"/>
            <a:ext cx="830556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aeaea"/>
                </a:solidFill>
                <a:latin typeface="Arial"/>
              </a:rPr>
              <a:t>Unit 1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m Spring Final Re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7C2FD-D7D1-435F-9F83-913F2D3D5F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eaeaea"/>
                </a:solidFill>
                <a:uFillTx/>
                <a:latin typeface="Arial"/>
              </a:rPr>
              <a:t>Unit 1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228240" y="1447920"/>
            <a:ext cx="89154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Equilibrium: opposing chemical and physical changes occurs at equal rat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m Spring Final Re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CCD3A-5EEE-4C9D-AF42-F3EAFB6E35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0" y="-30492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eaeaea"/>
                </a:solidFill>
                <a:uFillTx/>
                <a:latin typeface="Arial"/>
              </a:rPr>
              <a:t>Unit 1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0" y="12193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Equilibrium can be shifted by changing the pressure, temperature or concentration of the system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Le Ch</a:t>
            </a:r>
            <a:r>
              <a:rPr b="1" lang="en-US" sz="5400" spc="-1" strike="noStrike">
                <a:solidFill>
                  <a:srgbClr val="eaeaea"/>
                </a:solidFill>
                <a:latin typeface="Arial"/>
                <a:ea typeface="Arial"/>
              </a:rPr>
              <a:t>âtelier’s Principl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m Spring Final Re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1419B-21C6-44FD-83C2-96D36D4212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eaeaea"/>
                </a:solidFill>
                <a:uFillTx/>
                <a:latin typeface="Arial"/>
              </a:rPr>
              <a:t>Unit 1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0" y="14479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Equilibrium expression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en-US" sz="5400" spc="-1" strike="noStrike" baseline="-50000">
                <a:solidFill>
                  <a:srgbClr val="eaeaea"/>
                </a:solidFill>
                <a:latin typeface="Arial"/>
              </a:rPr>
              <a:t>[products]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K</a:t>
            </a:r>
            <a:r>
              <a:rPr b="1" i="1" lang="en-US" sz="5400" spc="-1" strike="noStrike" baseline="-25000">
                <a:solidFill>
                  <a:srgbClr val="eaeaea"/>
                </a:solidFill>
                <a:latin typeface="Arial"/>
              </a:rPr>
              <a:t>eq</a:t>
            </a: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 = -------------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              </a:t>
            </a:r>
            <a:r>
              <a:rPr b="1" lang="en-US" sz="5400" spc="-1" strike="noStrike" baseline="50000">
                <a:solidFill>
                  <a:srgbClr val="eaeaea"/>
                </a:solidFill>
                <a:latin typeface="Arial"/>
              </a:rPr>
              <a:t>[reactants]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m Spring Final Re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ECE45-A4A7-4F1C-9D43-89FE7058B8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eaeaea"/>
                </a:solidFill>
                <a:uFillTx/>
                <a:latin typeface="Arial"/>
              </a:rPr>
              <a:t>Unit 1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0" y="14479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Equilibrium expressions only include concentrations in the gas stat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Large K = favors product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Footer Placeholder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m Spring Final Re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D61C6-2BF0-40FD-97BD-242E0C7011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533160" y="2666880"/>
            <a:ext cx="830556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aeaea"/>
                </a:solidFill>
                <a:latin typeface="Arial"/>
              </a:rPr>
              <a:t>Unit 1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m Spring Final Re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131A4-F8BD-4035-BA92-27DAC6EF0B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eaeaea"/>
                </a:solidFill>
                <a:uFillTx/>
                <a:latin typeface="Arial"/>
              </a:rPr>
              <a:t>Review of the Units</a:t>
            </a:r>
            <a:r>
              <a:rPr b="1" lang="en-US" sz="6000" spc="-1" strike="noStrike">
                <a:solidFill>
                  <a:srgbClr val="eaeaea"/>
                </a:solidFill>
                <a:latin typeface="Arial"/>
              </a:rPr>
              <a:t>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0" y="1447560"/>
            <a:ext cx="91440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aeaea"/>
                </a:solidFill>
                <a:latin typeface="Arial"/>
              </a:rPr>
              <a:t>Unit 8: Gas Law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m Spring Final Re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92A95-8E8C-4CA0-BCE0-F150E41AB2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eaeaea"/>
                </a:solidFill>
                <a:uFillTx/>
                <a:latin typeface="Arial"/>
              </a:rPr>
              <a:t>Unit 1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0" y="14479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Acids are proton donors (Br</a:t>
            </a:r>
            <a:r>
              <a:rPr b="1" lang="en-US" sz="5400" spc="-1" strike="noStrike">
                <a:solidFill>
                  <a:srgbClr val="eaeaea"/>
                </a:solidFill>
                <a:latin typeface="Arial"/>
                <a:ea typeface="Arial"/>
              </a:rPr>
              <a:t>ønsted-Lowry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  <a:ea typeface="Arial"/>
              </a:rPr>
              <a:t>Acids taste sour, corrode metal, turn litmus paper pink and have a pH &lt; 7</a:t>
            </a: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m Spring Final Re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A1817-89B6-4E2F-938F-A4794C7BDB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0" y="-38088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eaeaea"/>
                </a:solidFill>
                <a:uFillTx/>
                <a:latin typeface="Arial"/>
              </a:rPr>
              <a:t>Unit 1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0" y="9907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Bases are proton acceptors (Br</a:t>
            </a:r>
            <a:r>
              <a:rPr b="1" lang="en-US" sz="5400" spc="-1" strike="noStrike">
                <a:solidFill>
                  <a:srgbClr val="eaeaea"/>
                </a:solidFill>
                <a:latin typeface="Arial"/>
                <a:ea typeface="Arial"/>
              </a:rPr>
              <a:t>ønsted-Lowry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  <a:ea typeface="Arial"/>
              </a:rPr>
              <a:t>Bases taste bitter, feel slippery, turn litmus paper blue and have a pH &gt; 7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m Spring Final Re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66805-50E9-490F-8B5F-8A61DC1755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eaeaea"/>
                </a:solidFill>
                <a:uFillTx/>
                <a:latin typeface="Arial"/>
              </a:rPr>
              <a:t>Unit 1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0" y="14479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HA + H</a:t>
            </a:r>
            <a:r>
              <a:rPr b="1" lang="en-US" sz="5400" spc="-1" strike="noStrike" baseline="-25000">
                <a:solidFill>
                  <a:srgbClr val="eaeaea"/>
                </a:solidFill>
                <a:latin typeface="Arial"/>
              </a:rPr>
              <a:t>2</a:t>
            </a: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O </a:t>
            </a:r>
            <a:r>
              <a:rPr b="1" lang="en-US" sz="5400" spc="-1" strike="noStrike">
                <a:solidFill>
                  <a:srgbClr val="eaeaea"/>
                </a:solidFill>
                <a:latin typeface="Wingdings"/>
                <a:ea typeface="Wingdings"/>
              </a:rPr>
              <a:t></a:t>
            </a: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 H</a:t>
            </a:r>
            <a:r>
              <a:rPr b="1" lang="en-US" sz="5400" spc="-1" strike="noStrike" baseline="-25000">
                <a:solidFill>
                  <a:srgbClr val="eaeaea"/>
                </a:solidFill>
                <a:latin typeface="Arial"/>
              </a:rPr>
              <a:t>3</a:t>
            </a: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O</a:t>
            </a:r>
            <a:r>
              <a:rPr b="1" lang="en-US" sz="5400" spc="-1" strike="noStrike" baseline="30000">
                <a:solidFill>
                  <a:srgbClr val="eaeaea"/>
                </a:solidFill>
                <a:latin typeface="Arial"/>
              </a:rPr>
              <a:t>+</a:t>
            </a: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 + A</a:t>
            </a:r>
            <a:r>
              <a:rPr b="1" lang="en-US" sz="5400" spc="-1" strike="noStrike" baseline="30000">
                <a:solidFill>
                  <a:srgbClr val="eaeaea"/>
                </a:solidFill>
                <a:latin typeface="Arial"/>
              </a:rPr>
              <a:t>-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If HA is a strong acid, then A</a:t>
            </a:r>
            <a:r>
              <a:rPr b="1" lang="en-US" sz="5400" spc="-1" strike="noStrike" baseline="30000">
                <a:solidFill>
                  <a:srgbClr val="eaeaea"/>
                </a:solidFill>
                <a:latin typeface="Arial"/>
              </a:rPr>
              <a:t>-</a:t>
            </a: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 is a weak conjugate bas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m Spring Final Re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C7C5D-398E-4802-AB9A-446F9E0637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eaeaea"/>
                </a:solidFill>
                <a:uFillTx/>
                <a:latin typeface="Arial"/>
              </a:rPr>
              <a:t>Unit 1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0" y="14479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pH = - log [H</a:t>
            </a:r>
            <a:r>
              <a:rPr b="1" lang="en-US" sz="5400" spc="-1" strike="noStrike" baseline="-25000">
                <a:solidFill>
                  <a:srgbClr val="eaeaea"/>
                </a:solidFill>
                <a:latin typeface="Arial"/>
              </a:rPr>
              <a:t>3</a:t>
            </a: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O</a:t>
            </a:r>
            <a:r>
              <a:rPr b="1" lang="en-US" sz="5400" spc="-1" strike="noStrike" baseline="30000">
                <a:solidFill>
                  <a:srgbClr val="eaeaea"/>
                </a:solidFill>
                <a:latin typeface="Arial"/>
              </a:rPr>
              <a:t>+</a:t>
            </a: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]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[H</a:t>
            </a:r>
            <a:r>
              <a:rPr b="1" lang="en-US" sz="5400" spc="-1" strike="noStrike" baseline="-25000">
                <a:solidFill>
                  <a:srgbClr val="eaeaea"/>
                </a:solidFill>
                <a:latin typeface="Arial"/>
              </a:rPr>
              <a:t>3</a:t>
            </a: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O</a:t>
            </a:r>
            <a:r>
              <a:rPr b="1" lang="en-US" sz="5400" spc="-1" strike="noStrike" baseline="30000">
                <a:solidFill>
                  <a:srgbClr val="eaeaea"/>
                </a:solidFill>
                <a:latin typeface="Arial"/>
              </a:rPr>
              <a:t>+</a:t>
            </a: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] = 2</a:t>
            </a:r>
            <a:r>
              <a:rPr b="1" lang="en-US" sz="5400" spc="-1" strike="noStrike" baseline="30000">
                <a:solidFill>
                  <a:srgbClr val="eaeaea"/>
                </a:solidFill>
                <a:latin typeface="Arial"/>
              </a:rPr>
              <a:t>nd</a:t>
            </a: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 log –p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pH + pOH = 14.0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K</a:t>
            </a:r>
            <a:r>
              <a:rPr b="1" lang="en-US" sz="5400" spc="-1" strike="noStrike" baseline="-25000">
                <a:solidFill>
                  <a:srgbClr val="eaeaea"/>
                </a:solidFill>
                <a:latin typeface="Arial"/>
              </a:rPr>
              <a:t>w</a:t>
            </a: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 = 1.0 x 10</a:t>
            </a:r>
            <a:r>
              <a:rPr b="1" lang="en-US" sz="5400" spc="-1" strike="noStrike" baseline="30000">
                <a:solidFill>
                  <a:srgbClr val="eaeaea"/>
                </a:solidFill>
                <a:latin typeface="Arial"/>
              </a:rPr>
              <a:t>-14</a:t>
            </a: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 M</a:t>
            </a:r>
            <a:r>
              <a:rPr b="1" lang="en-US" sz="5400" spc="-1" strike="noStrike" baseline="30000">
                <a:solidFill>
                  <a:srgbClr val="eaeaea"/>
                </a:solidFill>
                <a:latin typeface="Arial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m Spring Final Re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9979D-6358-42F3-950D-DA7146034A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eaeaea"/>
                </a:solidFill>
                <a:uFillTx/>
                <a:latin typeface="Arial"/>
              </a:rPr>
              <a:t>Unit 1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0" y="14479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Blue to red = aci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Phenolphthalein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Bromothymol blu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m Spring Final Re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9A995-3BDB-4A69-A66C-505BB69B3C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eaeaea"/>
                </a:solidFill>
                <a:uFillTx/>
                <a:latin typeface="Arial"/>
              </a:rPr>
              <a:t>Unit 1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0" y="14479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Titration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M</a:t>
            </a:r>
            <a:r>
              <a:rPr b="1" lang="en-US" sz="5400" spc="-1" strike="noStrike" baseline="-25000">
                <a:solidFill>
                  <a:srgbClr val="eaeaea"/>
                </a:solidFill>
                <a:latin typeface="Arial"/>
              </a:rPr>
              <a:t>a</a:t>
            </a: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V</a:t>
            </a:r>
            <a:r>
              <a:rPr b="1" lang="en-US" sz="5400" spc="-1" strike="noStrike" baseline="-25000">
                <a:solidFill>
                  <a:srgbClr val="eaeaea"/>
                </a:solidFill>
                <a:latin typeface="Arial"/>
              </a:rPr>
              <a:t>a</a:t>
            </a: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 = M</a:t>
            </a:r>
            <a:r>
              <a:rPr b="1" lang="en-US" sz="5400" spc="-1" strike="noStrike" baseline="-25000">
                <a:solidFill>
                  <a:srgbClr val="eaeaea"/>
                </a:solidFill>
                <a:latin typeface="Arial"/>
              </a:rPr>
              <a:t>b</a:t>
            </a: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V</a:t>
            </a:r>
            <a:r>
              <a:rPr b="1" lang="en-US" sz="5400" spc="-1" strike="noStrike" baseline="-25000">
                <a:solidFill>
                  <a:srgbClr val="eaeaea"/>
                </a:solidFill>
                <a:latin typeface="Arial"/>
              </a:rPr>
              <a:t>b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HNO</a:t>
            </a:r>
            <a:r>
              <a:rPr b="1" lang="en-US" sz="5400" spc="-1" strike="noStrike" baseline="-25000">
                <a:solidFill>
                  <a:srgbClr val="eaeaea"/>
                </a:solidFill>
                <a:latin typeface="Arial"/>
              </a:rPr>
              <a:t>3</a:t>
            </a: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, HCl and H</a:t>
            </a:r>
            <a:r>
              <a:rPr b="1" lang="en-US" sz="5400" spc="-1" strike="noStrike" baseline="-25000">
                <a:solidFill>
                  <a:srgbClr val="eaeaea"/>
                </a:solidFill>
                <a:latin typeface="Arial"/>
              </a:rPr>
              <a:t>2</a:t>
            </a: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SO</a:t>
            </a:r>
            <a:r>
              <a:rPr b="1" lang="en-US" sz="5400" spc="-1" strike="noStrike" baseline="-25000">
                <a:solidFill>
                  <a:srgbClr val="eaeaea"/>
                </a:solidFill>
                <a:latin typeface="Arial"/>
              </a:rPr>
              <a:t>4</a:t>
            </a: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 are strong acid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Acetic acid is weak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Footer Placeholder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m Spring Final Re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10C07-D586-4F18-91A9-40821F324E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ubTitle"/>
          </p:nvPr>
        </p:nvSpPr>
        <p:spPr>
          <a:xfrm>
            <a:off x="533160" y="2666880"/>
            <a:ext cx="830556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aeaea"/>
                </a:solidFill>
                <a:latin typeface="Arial"/>
              </a:rPr>
              <a:t>Unit 1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m Spring Final Re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890FB-4497-47FC-AFAA-88C00CEA2D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0" y="-30492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eaeaea"/>
                </a:solidFill>
                <a:uFillTx/>
                <a:latin typeface="Arial"/>
              </a:rPr>
              <a:t>Unit 1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lnSpc>
                <a:spcPct val="90000"/>
              </a:lnSpc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Redox involves the transfer of electron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Metals typically tend to lose electron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Some metals lose electrons easier than other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m Spring Final Re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C1544-6DF5-4E9B-A760-0371AB0A7E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0" y="-30492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eaeaea"/>
                </a:solidFill>
                <a:uFillTx/>
                <a:latin typeface="Arial"/>
              </a:rPr>
              <a:t>Unit 1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LEO says G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Oxidized – reducing agen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Reduced – oxidizing agen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m Spring Final Re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F5FBC-155B-49C8-A4B6-D2A5CA0E23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0" y="-30492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eaeaea"/>
                </a:solidFill>
                <a:uFillTx/>
                <a:latin typeface="Arial"/>
              </a:rPr>
              <a:t>Unit 1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Oxidation number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What is the oxidation number of S in MgSO</a:t>
            </a:r>
            <a:r>
              <a:rPr b="1" lang="en-US" sz="5400" spc="-1" strike="noStrike" baseline="-25000">
                <a:solidFill>
                  <a:srgbClr val="eaeaea"/>
                </a:solidFill>
                <a:latin typeface="Arial"/>
              </a:rPr>
              <a:t>4</a:t>
            </a: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More electronegative element receives the negative charge (F, O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m Spring Final Re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444DF-F28E-44AB-A135-744864FEC6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eaeaea"/>
                </a:solidFill>
                <a:uFillTx/>
                <a:latin typeface="Arial"/>
              </a:rPr>
              <a:t>Review of the Units</a:t>
            </a:r>
            <a:r>
              <a:rPr b="1" lang="en-US" sz="6000" spc="-1" strike="noStrike">
                <a:solidFill>
                  <a:srgbClr val="eaeaea"/>
                </a:solidFill>
                <a:latin typeface="Arial"/>
              </a:rPr>
              <a:t>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-360" y="1447560"/>
            <a:ext cx="88390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aeaea"/>
                </a:solidFill>
                <a:latin typeface="Arial"/>
              </a:rPr>
              <a:t>Unit 9:  Condensed states of matte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m Spring Final Re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AAA9E-F4BF-4F25-8906-101BC1C4E2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0" y="-30492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eaeaea"/>
                </a:solidFill>
                <a:uFillTx/>
                <a:latin typeface="Arial"/>
              </a:rPr>
              <a:t>Unit 1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In galvanic cells, oxidation takes place at the anode.  Reduction takes place at the cathode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m Spring Final Re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240D8-1DC1-4D5A-9BC6-190E461396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0" y="-30492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eaeaea"/>
                </a:solidFill>
                <a:uFillTx/>
                <a:latin typeface="Arial"/>
              </a:rPr>
              <a:t>Unit 1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Electric current flows from the anode to the cathod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Metals are the best conductors of electricit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m Spring Final Re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96811-5BAB-4665-BB43-2B9276D172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0" y="-30492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eaeaea"/>
                </a:solidFill>
                <a:uFillTx/>
                <a:latin typeface="Arial"/>
              </a:rPr>
              <a:t>Unit 1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Be able to calculate the potential of a cel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eaeaea"/>
                </a:solidFill>
                <a:latin typeface="Arial"/>
              </a:rPr>
              <a:t>Ag</a:t>
            </a:r>
            <a:r>
              <a:rPr b="1" lang="en-US" sz="4800" spc="-1" strike="noStrike" baseline="30000">
                <a:solidFill>
                  <a:srgbClr val="eaeaea"/>
                </a:solidFill>
                <a:latin typeface="Arial"/>
              </a:rPr>
              <a:t>+</a:t>
            </a:r>
            <a:r>
              <a:rPr b="1" lang="en-US" sz="4800" spc="-1" strike="noStrike">
                <a:solidFill>
                  <a:srgbClr val="eaeaea"/>
                </a:solidFill>
                <a:latin typeface="Arial"/>
              </a:rPr>
              <a:t> + e</a:t>
            </a:r>
            <a:r>
              <a:rPr b="1" lang="en-US" sz="4800" spc="-1" strike="noStrike" baseline="30000">
                <a:solidFill>
                  <a:srgbClr val="eaeaea"/>
                </a:solidFill>
                <a:latin typeface="Arial"/>
              </a:rPr>
              <a:t>-</a:t>
            </a:r>
            <a:r>
              <a:rPr b="1" lang="en-US" sz="4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eaeaea"/>
                </a:solidFill>
                <a:latin typeface="Wingdings"/>
                <a:ea typeface="Wingdings"/>
              </a:rPr>
              <a:t></a:t>
            </a:r>
            <a:r>
              <a:rPr b="1" lang="en-US" sz="4800" spc="-1" strike="noStrike">
                <a:solidFill>
                  <a:srgbClr val="eaeaea"/>
                </a:solidFill>
                <a:latin typeface="Arial"/>
              </a:rPr>
              <a:t> Ag    E</a:t>
            </a:r>
            <a:r>
              <a:rPr b="1" lang="en-US" sz="4800" spc="-1" strike="noStrike" baseline="30000">
                <a:solidFill>
                  <a:srgbClr val="eaeaea"/>
                </a:solidFill>
                <a:latin typeface="Arial"/>
              </a:rPr>
              <a:t>o </a:t>
            </a:r>
            <a:r>
              <a:rPr b="1" lang="en-US" sz="4800" spc="-1" strike="noStrike">
                <a:solidFill>
                  <a:srgbClr val="eaeaea"/>
                </a:solidFill>
                <a:latin typeface="Arial"/>
              </a:rPr>
              <a:t>= +0.80V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eaeaea"/>
                </a:solidFill>
                <a:latin typeface="Arial"/>
              </a:rPr>
              <a:t>Fe</a:t>
            </a:r>
            <a:r>
              <a:rPr b="1" lang="en-US" sz="4800" spc="-1" strike="noStrike" baseline="30000">
                <a:solidFill>
                  <a:srgbClr val="eaeaea"/>
                </a:solidFill>
                <a:latin typeface="Arial"/>
              </a:rPr>
              <a:t>+3</a:t>
            </a:r>
            <a:r>
              <a:rPr b="1" lang="en-US" sz="4800" spc="-1" strike="noStrike">
                <a:solidFill>
                  <a:srgbClr val="eaeaea"/>
                </a:solidFill>
                <a:latin typeface="Arial"/>
              </a:rPr>
              <a:t> + 3e</a:t>
            </a:r>
            <a:r>
              <a:rPr b="1" lang="en-US" sz="4800" spc="-1" strike="noStrike" baseline="30000">
                <a:solidFill>
                  <a:srgbClr val="eaeaea"/>
                </a:solidFill>
                <a:latin typeface="Arial"/>
              </a:rPr>
              <a:t>-</a:t>
            </a:r>
            <a:r>
              <a:rPr b="1" lang="en-US" sz="4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eaeaea"/>
                </a:solidFill>
                <a:latin typeface="Wingdings"/>
                <a:ea typeface="Wingdings"/>
              </a:rPr>
              <a:t></a:t>
            </a:r>
            <a:r>
              <a:rPr b="1" lang="en-US" sz="4800" spc="-1" strike="noStrike">
                <a:solidFill>
                  <a:srgbClr val="eaeaea"/>
                </a:solidFill>
                <a:latin typeface="Arial"/>
              </a:rPr>
              <a:t> Fe  E</a:t>
            </a:r>
            <a:r>
              <a:rPr b="1" lang="en-US" sz="4800" spc="-1" strike="noStrike" baseline="30000">
                <a:solidFill>
                  <a:srgbClr val="eaeaea"/>
                </a:solidFill>
                <a:latin typeface="Arial"/>
              </a:rPr>
              <a:t>o </a:t>
            </a:r>
            <a:r>
              <a:rPr b="1" lang="en-US" sz="4800" spc="-1" strike="noStrike">
                <a:solidFill>
                  <a:srgbClr val="eaeaea"/>
                </a:solidFill>
                <a:latin typeface="Arial"/>
              </a:rPr>
              <a:t>= +0.77V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Which metal is the cathode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m Spring Final Re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899DC-A242-4BA2-A131-9AE28E1E5C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0" y="-30492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eaeaea"/>
                </a:solidFill>
                <a:uFillTx/>
                <a:latin typeface="Arial"/>
              </a:rPr>
              <a:t>Unit 1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Know about corrosi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How to prevent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Which metals are used in cathodic protection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m Spring Final Re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383D4-7836-4BB2-BE88-5452FBB580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0" y="-30492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eaeaea"/>
                </a:solidFill>
                <a:uFillTx/>
                <a:latin typeface="Arial"/>
              </a:rPr>
              <a:t>Unit 1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Nuclear chemistry is the study of the nucleu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Nuclide undergo decay to become more stabl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N:P ratio </a:t>
            </a:r>
            <a:r>
              <a:rPr b="1" lang="en-US" sz="5400" spc="-1" strike="noStrike">
                <a:solidFill>
                  <a:srgbClr val="eaeaea"/>
                </a:solidFill>
                <a:latin typeface="Wingdings"/>
                <a:ea typeface="Wingdings"/>
              </a:rPr>
              <a:t></a:t>
            </a: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 1:1 – 1.5: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m Spring Final Re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9B501-2958-44CD-ACA1-5A574108BD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0" y="-30492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eaeaea"/>
                </a:solidFill>
                <a:uFillTx/>
                <a:latin typeface="Arial"/>
              </a:rPr>
              <a:t>Unit 1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subTitle"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Most common form of decay: </a:t>
            </a:r>
            <a:r>
              <a:rPr b="1" lang="el-GR" sz="5400" spc="-1" strike="noStrike">
                <a:solidFill>
                  <a:srgbClr val="eaeaea"/>
                </a:solidFill>
                <a:latin typeface="Arial"/>
                <a:ea typeface="Arial"/>
              </a:rPr>
              <a:t>α</a:t>
            </a:r>
            <a:r>
              <a:rPr b="1" lang="en-US" sz="5400" spc="-1" strike="noStrike">
                <a:solidFill>
                  <a:srgbClr val="eaeaea"/>
                </a:solidFill>
                <a:latin typeface="Arial"/>
                <a:ea typeface="Arial"/>
              </a:rPr>
              <a:t>-decay (helium) and </a:t>
            </a:r>
            <a:r>
              <a:rPr b="1" lang="el-GR" sz="5400" spc="-1" strike="noStrike">
                <a:solidFill>
                  <a:srgbClr val="eaeaea"/>
                </a:solidFill>
                <a:latin typeface="Arial"/>
                <a:ea typeface="Arial"/>
              </a:rPr>
              <a:t>β</a:t>
            </a:r>
            <a:r>
              <a:rPr b="1" lang="en-US" sz="5400" spc="-1" strike="noStrike">
                <a:solidFill>
                  <a:srgbClr val="eaeaea"/>
                </a:solidFill>
                <a:latin typeface="Arial"/>
                <a:ea typeface="Arial"/>
              </a:rPr>
              <a:t>-decay (electrons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  <a:ea typeface="Arial"/>
              </a:rPr>
              <a:t>Nuclear reactors function on the principle of fission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m Spring Final Re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94259-D0FA-43FC-B151-723EF4BEFF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0" y="-30492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eaeaea"/>
                </a:solidFill>
                <a:uFillTx/>
                <a:latin typeface="Arial"/>
              </a:rPr>
              <a:t>Unit 1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Reactors that generate additional fissionable fuel are known as breeder reactor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m Spring Final Re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7254D-EEFE-4787-A265-C8B3F71363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0" y="-30492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eaeaea"/>
                </a:solidFill>
                <a:uFillTx/>
                <a:latin typeface="Arial"/>
              </a:rPr>
              <a:t>Unit 1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lnSpc>
                <a:spcPct val="90000"/>
              </a:lnSpc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Soviet-style reactors are known as RBMK reactor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Control rods absorb neutrons</a:t>
            </a:r>
            <a:r>
              <a:rPr b="1" lang="en-US" sz="5400" spc="-1" strike="noStrike">
                <a:solidFill>
                  <a:srgbClr val="eaeaea"/>
                </a:solidFill>
                <a:latin typeface="Arial"/>
                <a:ea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  <a:ea typeface="Arial"/>
              </a:rPr>
              <a:t>Chernobyl’s meltdown was caused by human erro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m Spring Final Re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D5BB9-BF34-4525-9F69-D564799ED2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0" y="-30492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eaeaea"/>
                </a:solidFill>
                <a:uFillTx/>
                <a:latin typeface="Arial"/>
              </a:rPr>
              <a:t>Unit 1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Half-life: the amount of time needed for half of the original sample to remai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How much will remain after 2 half-lives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m Spring Final Re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AEC9B-7DD3-4CA9-901A-F51AB874AE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0" y="-30492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eaeaea"/>
                </a:solidFill>
                <a:uFillTx/>
                <a:latin typeface="Arial"/>
              </a:rPr>
              <a:t>Unit 1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Hydrogen bombs are fusion bomb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“</a:t>
            </a: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Fat man” and “Little boy” were fission bomb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m Spring Final Re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6277A-E449-44AE-9442-DF3AD44062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eaeaea"/>
                </a:solidFill>
                <a:uFillTx/>
                <a:latin typeface="Arial"/>
              </a:rPr>
              <a:t>Review of the Units</a:t>
            </a:r>
            <a:r>
              <a:rPr b="1" lang="en-US" sz="6000" spc="-1" strike="noStrike">
                <a:solidFill>
                  <a:srgbClr val="eaeaea"/>
                </a:solidFill>
                <a:latin typeface="Arial"/>
              </a:rPr>
              <a:t>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0" y="1447560"/>
            <a:ext cx="91440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aeaea"/>
                </a:solidFill>
                <a:latin typeface="Arial"/>
              </a:rPr>
              <a:t>Unit 10:  Solution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Footer Placeholder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m Spring Final Re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CD1C8-149A-419C-BF78-F90D3870E7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33160" y="2666880"/>
            <a:ext cx="830556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aeaea"/>
                </a:solidFill>
                <a:latin typeface="Arial"/>
              </a:rPr>
              <a:t>Unit 1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m Spring Final Re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D4029-4595-4FDB-B727-4BBFECB0F8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0" y="-30492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eaeaea"/>
                </a:solidFill>
                <a:uFillTx/>
                <a:latin typeface="Arial"/>
              </a:rPr>
              <a:t>Unit 1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Organic chemistry is the chemistry of carb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Urea was the first synthesized organic compoun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m Spring Final Re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6F917-3276-4253-A0B5-AFF36D189A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0" y="-30492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eaeaea"/>
                </a:solidFill>
                <a:uFillTx/>
                <a:latin typeface="Arial"/>
              </a:rPr>
              <a:t>Unit 1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Nomenclature: alkanes, alkenes, alkyn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Hydrogenation reactions: adding hydrogen to alkenes/alkynes breaks bond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m Spring Final Re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B72FF-DCEA-4A21-9808-C3096378FF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0" y="-30492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eaeaea"/>
                </a:solidFill>
                <a:uFillTx/>
                <a:latin typeface="Arial"/>
              </a:rPr>
              <a:t>Unit 1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Not all hydrocarbons are saturate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m Spring Final Re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196E0-D9BC-4CB0-A03F-E453D19D59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0" y="-30492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eaeaea"/>
                </a:solidFill>
                <a:uFillTx/>
                <a:latin typeface="Arial"/>
              </a:rPr>
              <a:t>Unit 1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Nomenclature: benzenes (aromatics), alcohols, aldehydes, ketones, carboxylic acids, ethers and ester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m Spring Final Re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4DFB1-BDD9-46D9-AE39-E8B6F2D438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0" y="-30492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eaeaea"/>
                </a:solidFill>
                <a:uFillTx/>
                <a:latin typeface="Arial"/>
              </a:rPr>
              <a:t>Unit 1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Know properties and us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Aldehydes are used to preserve classroom specimen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m Spring Final Re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31852-9935-44F8-8454-32AF6345E1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0" y="-30492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eaeaea"/>
                </a:solidFill>
                <a:uFillTx/>
                <a:latin typeface="Arial"/>
              </a:rPr>
              <a:t>Unit 1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Aromatics have a smell (benzenes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m Spring Final Re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E2311-38A3-4C86-9EDA-07E9E84563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0" y="-30492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eaeaea"/>
                </a:solidFill>
                <a:uFillTx/>
                <a:latin typeface="Arial"/>
              </a:rPr>
              <a:t>Unit 1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subTitle"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Biochemistry: chemistry of lif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Four main biomolecules:  proteins (glue lab), carbohydrates, lipids (fats) and nucleic acid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m Spring Final Re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3A35F-DB94-4104-9CB9-27DF59C7E5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0" y="-30492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eaeaea"/>
                </a:solidFill>
                <a:uFillTx/>
                <a:latin typeface="Arial"/>
              </a:rPr>
              <a:t>Unit 1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Proteins are made of amino acid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All amino acids have an amino group, carboxylic acid, R group and hydroge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m Spring Final Re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6A12E-525F-4EA0-901A-36993A5048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0" y="-30492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eaeaea"/>
                </a:solidFill>
                <a:uFillTx/>
                <a:latin typeface="Arial"/>
              </a:rPr>
              <a:t>Unit 1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Some amino acid R groups are hydrophilic (water-loving), and hydrophobic (water-fearing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m Spring Final Re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CCB3B-395B-4A1F-84F0-F9A7AA2FCF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eaeaea"/>
                </a:solidFill>
                <a:uFillTx/>
                <a:latin typeface="Arial"/>
              </a:rPr>
              <a:t>Review of the Units</a:t>
            </a:r>
            <a:r>
              <a:rPr b="1" lang="en-US" sz="6000" spc="-1" strike="noStrike">
                <a:solidFill>
                  <a:srgbClr val="eaeaea"/>
                </a:solidFill>
                <a:latin typeface="Arial"/>
              </a:rPr>
              <a:t>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0" y="1447560"/>
            <a:ext cx="91440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aeaea"/>
                </a:solidFill>
                <a:latin typeface="Arial"/>
              </a:rPr>
              <a:t>Unit 11: Thermodynamic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m Spring Final Re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734F9-F7F8-40F1-ABCC-8E350E7617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0" y="-30492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eaeaea"/>
                </a:solidFill>
                <a:uFillTx/>
                <a:latin typeface="Arial"/>
              </a:rPr>
              <a:t>Unit 1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The order of the amino acids is known as the </a:t>
            </a:r>
            <a:r>
              <a:rPr b="1" i="1" lang="en-US" sz="5400" spc="-1" strike="noStrike">
                <a:solidFill>
                  <a:srgbClr val="eaeaea"/>
                </a:solidFill>
                <a:latin typeface="Arial"/>
              </a:rPr>
              <a:t>primary</a:t>
            </a: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 structur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m Spring Final Re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82654-EBAD-4348-82E4-454EBD54C4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0" y="-30492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eaeaea"/>
                </a:solidFill>
                <a:uFillTx/>
                <a:latin typeface="Arial"/>
              </a:rPr>
              <a:t>Unit 1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subTitle"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The “space” of the peptide chain is the </a:t>
            </a:r>
            <a:r>
              <a:rPr b="1" i="1" lang="en-US" sz="5400" spc="-1" strike="noStrike">
                <a:solidFill>
                  <a:srgbClr val="eaeaea"/>
                </a:solidFill>
                <a:latin typeface="Arial"/>
              </a:rPr>
              <a:t>secondary</a:t>
            </a: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 structur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Alpha helix (collagen) vs. </a:t>
            </a:r>
            <a:r>
              <a:rPr b="1" lang="el-GR" sz="5400" spc="-1" strike="noStrike">
                <a:solidFill>
                  <a:srgbClr val="eaeaea"/>
                </a:solidFill>
                <a:latin typeface="Arial"/>
                <a:ea typeface="Arial"/>
              </a:rPr>
              <a:t>β</a:t>
            </a:r>
            <a:r>
              <a:rPr b="1" lang="en-US" sz="5400" spc="-1" strike="noStrike">
                <a:solidFill>
                  <a:srgbClr val="eaeaea"/>
                </a:solidFill>
                <a:latin typeface="Arial"/>
                <a:ea typeface="Arial"/>
              </a:rPr>
              <a:t>-</a:t>
            </a: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pleated sheet (silk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m Spring Final Re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1CE50-657A-4D7F-8084-CCC54E1ABA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0" y="-30492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eaeaea"/>
                </a:solidFill>
                <a:uFillTx/>
                <a:latin typeface="Arial"/>
              </a:rPr>
              <a:t>Unit 1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subTitle"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eaeaea"/>
                </a:solidFill>
                <a:latin typeface="Arial"/>
              </a:rPr>
              <a:t>Tertiary</a:t>
            </a: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 structure is the “shape” of the protein—this is determined by the hydrophilic and hydrophobic R groups found on the amino acide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m Spring Final Re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05C69-FF8A-4834-A2DF-73E36A7FDE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0" y="-30492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eaeaea"/>
                </a:solidFill>
                <a:uFillTx/>
                <a:latin typeface="Arial"/>
              </a:rPr>
              <a:t>Unit 1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Amino acids are bonded by “peptide linkages”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“</a:t>
            </a: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C—N”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Water is produced when peptide linkages are forme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m Spring Final Re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441BD-D788-4219-9BAF-6CA64C223A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0" y="-30492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eaeaea"/>
                </a:solidFill>
                <a:uFillTx/>
                <a:latin typeface="Arial"/>
              </a:rPr>
              <a:t>Unit 1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Polypeptides are polymers (many monomers make polymers).  “Poly” means many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m Spring Final Re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3336B-8458-4895-A7B3-186BB81146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0" y="-30492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eaeaea"/>
                </a:solidFill>
                <a:uFillTx/>
                <a:latin typeface="Arial"/>
              </a:rPr>
              <a:t>Unit 1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Enzymes are biological catalyst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“</a:t>
            </a: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Lock and Key” mode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Substrat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m Spring Final Re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78F71-56F0-4F58-966C-9038314B14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0" y="-30492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eaeaea"/>
                </a:solidFill>
                <a:uFillTx/>
                <a:latin typeface="Arial"/>
              </a:rPr>
              <a:t>Unit 1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subTitle"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lnSpc>
                <a:spcPct val="90000"/>
              </a:lnSpc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Carbohydrates are sugars (saccharides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Monosaccharide = one sugar; disaccharides = two sugars; polysaccharides = many sugar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m Spring Final Re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73CFD-2FAE-41B6-B0C3-E3BBFC20BC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0" y="-30492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eaeaea"/>
                </a:solidFill>
                <a:uFillTx/>
                <a:latin typeface="Arial"/>
              </a:rPr>
              <a:t>Unit 1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A bond is made when  disaccharides are formed (C—O—C) </a:t>
            </a:r>
            <a:r>
              <a:rPr b="1" lang="en-US" sz="5400" spc="-1" strike="noStrike">
                <a:solidFill>
                  <a:srgbClr val="eaeaea"/>
                </a:solidFill>
                <a:latin typeface="Wingdings"/>
                <a:ea typeface="Wingdings"/>
              </a:rPr>
              <a:t></a:t>
            </a: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 eth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Sucrose is a disaccharide made of glucose and fructos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m Spring Final Re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7B0E5-C0F1-41ED-BBEF-13BA1F4914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0" y="-30492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eaeaea"/>
                </a:solidFill>
                <a:uFillTx/>
                <a:latin typeface="Arial"/>
              </a:rPr>
              <a:t>Unit 1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subTitle"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Starch is an example of a polysaccharide (many units of glucose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m Spring Final Re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82F2C-9747-45D6-8967-940DEF24A5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0" y="-30492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eaeaea"/>
                </a:solidFill>
                <a:uFillTx/>
                <a:latin typeface="Arial"/>
              </a:rPr>
              <a:t>Unit 1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Bonds between monosaccharides are known as “glycoside linkages”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m Spring Final Re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18200-A413-479D-BDA7-D2A996B7FF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eaeaea"/>
                </a:solidFill>
                <a:uFillTx/>
                <a:latin typeface="Arial"/>
              </a:rPr>
              <a:t>Review of the Units</a:t>
            </a:r>
            <a:r>
              <a:rPr b="1" lang="en-US" sz="6000" spc="-1" strike="noStrike">
                <a:solidFill>
                  <a:srgbClr val="eaeaea"/>
                </a:solidFill>
                <a:latin typeface="Arial"/>
              </a:rPr>
              <a:t>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-360" y="1447560"/>
            <a:ext cx="8915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aeaea"/>
                </a:solidFill>
                <a:latin typeface="Arial"/>
              </a:rPr>
              <a:t>Unit 12: Equilibriu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m Spring Final Re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EDB54-CB8F-47B8-809C-A138EE39DA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0" y="-30492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eaeaea"/>
                </a:solidFill>
                <a:uFillTx/>
                <a:latin typeface="Arial"/>
              </a:rPr>
              <a:t>Unit 1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subTitle"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Some sugars cannot be digested by humans like cellulose (found in paper and wood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m Spring Final Re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D4194-6BF7-4CE9-AFAB-54B10C4573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0" y="-30492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eaeaea"/>
                </a:solidFill>
                <a:uFillTx/>
                <a:latin typeface="Arial"/>
              </a:rPr>
              <a:t>Unit 1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Lipids are also known as fat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Fats make food taste goo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Fats are dissolved by soap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m Spring Final Re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731C7-8BAF-42DE-AE8B-9F1E44D6FA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0" y="-30492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eaeaea"/>
                </a:solidFill>
                <a:uFillTx/>
                <a:latin typeface="Arial"/>
              </a:rPr>
              <a:t>Unit 1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subTitle"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Soap – micell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Fatty acids that are esters of glycerol are called </a:t>
            </a:r>
            <a:r>
              <a:rPr b="1" i="1" lang="en-US" sz="5400" spc="-1" strike="noStrike">
                <a:solidFill>
                  <a:srgbClr val="eaeaea"/>
                </a:solidFill>
                <a:latin typeface="Arial"/>
              </a:rPr>
              <a:t>triglycerid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Phospholipid bilayer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m Spring Final Re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C2D7C-C270-45BA-B324-CF9C3C2FA8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0" y="-30492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eaeaea"/>
                </a:solidFill>
                <a:uFillTx/>
                <a:latin typeface="Arial"/>
              </a:rPr>
              <a:t>Unit 1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subTitle"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DNA—deoxyribonucleic aci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RNA—ribonucleic acid (used in transcription/protein synthesis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m Spring Final Re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C7862-4EEE-4637-9672-EA9E166401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eaeaea"/>
                </a:solidFill>
                <a:uFillTx/>
                <a:latin typeface="Arial"/>
              </a:rPr>
              <a:t>Other Stuff to Review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228240" y="1447560"/>
            <a:ext cx="89154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How many moles in 25.0 grams of Fe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Answer: 0.448 mo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m Spring Final Re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4C42F-385B-4290-837A-20943E82CB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eaeaea"/>
                </a:solidFill>
                <a:uFillTx/>
                <a:latin typeface="Arial"/>
              </a:rPr>
              <a:t>Other Stuff to Review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subTitle"/>
          </p:nvPr>
        </p:nvSpPr>
        <p:spPr>
          <a:xfrm>
            <a:off x="228240" y="1447920"/>
            <a:ext cx="89154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Empirical formula: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  <a:ea typeface="Times New Roman"/>
              </a:rPr>
              <a:t>%</a:t>
            </a:r>
            <a:r>
              <a:rPr b="1" lang="en-US" sz="5400" spc="-1" strike="noStrike">
                <a:solidFill>
                  <a:srgbClr val="eaeaea"/>
                </a:solidFill>
                <a:latin typeface="Wingdings"/>
                <a:ea typeface="Wingdings"/>
              </a:rPr>
              <a:t></a:t>
            </a:r>
            <a:r>
              <a:rPr b="1" lang="en-US" sz="5400" spc="-1" strike="noStrike">
                <a:solidFill>
                  <a:srgbClr val="eaeaea"/>
                </a:solidFill>
                <a:latin typeface="Arial"/>
                <a:ea typeface="Times New Roman"/>
              </a:rPr>
              <a:t>g</a:t>
            </a:r>
            <a:r>
              <a:rPr b="1" lang="en-US" sz="5400" spc="-1" strike="noStrike">
                <a:solidFill>
                  <a:srgbClr val="eaeaea"/>
                </a:solidFill>
                <a:latin typeface="Wingdings"/>
                <a:ea typeface="Wingdings"/>
              </a:rPr>
              <a:t></a:t>
            </a:r>
            <a:r>
              <a:rPr b="1" lang="en-US" sz="5400" spc="-1" strike="noStrike">
                <a:solidFill>
                  <a:srgbClr val="eaeaea"/>
                </a:solidFill>
                <a:latin typeface="Arial"/>
                <a:ea typeface="Times New Roman"/>
              </a:rPr>
              <a:t>mol</a:t>
            </a:r>
            <a:r>
              <a:rPr b="1" lang="en-US" sz="5400" spc="-1" strike="noStrike">
                <a:solidFill>
                  <a:srgbClr val="eaeaea"/>
                </a:solidFill>
                <a:latin typeface="Wingdings"/>
                <a:ea typeface="Wingdings"/>
              </a:rPr>
              <a:t></a:t>
            </a:r>
            <a:r>
              <a:rPr b="1" lang="en-US" sz="5400" spc="-1" strike="noStrike">
                <a:solidFill>
                  <a:srgbClr val="eaeaea"/>
                </a:solidFill>
                <a:latin typeface="Arial"/>
                <a:ea typeface="Times New Roman"/>
              </a:rPr>
              <a:t>ratios</a:t>
            </a:r>
            <a:r>
              <a:rPr b="1" lang="en-US" sz="5400" spc="-1" strike="noStrike">
                <a:solidFill>
                  <a:srgbClr val="eaeaea"/>
                </a:solidFill>
                <a:latin typeface="Wingdings"/>
                <a:ea typeface="Wingdings"/>
              </a:rPr>
              <a:t></a:t>
            </a:r>
            <a:r>
              <a:rPr b="1" lang="en-US" sz="5400" spc="-1" strike="noStrike">
                <a:solidFill>
                  <a:srgbClr val="eaeaea"/>
                </a:solidFill>
                <a:latin typeface="Arial"/>
                <a:ea typeface="Times New Roman"/>
              </a:rPr>
              <a:t>E.F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  <a:ea typeface="Times New Roman"/>
              </a:rPr>
              <a:t>Molecular formul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  <a:ea typeface="Times New Roman"/>
              </a:rPr>
              <a:t>molar mass / emp. mass = ratio (</a:t>
            </a:r>
            <a:r>
              <a:rPr b="1" i="1" lang="en-US" sz="5400" spc="-1" strike="noStrike">
                <a:solidFill>
                  <a:srgbClr val="eaeaea"/>
                </a:solidFill>
                <a:latin typeface="Arial"/>
                <a:ea typeface="Times New Roman"/>
              </a:rPr>
              <a:t>n</a:t>
            </a:r>
            <a:r>
              <a:rPr b="1" lang="en-US" sz="5400" spc="-1" strike="noStrike">
                <a:solidFill>
                  <a:srgbClr val="eaeaea"/>
                </a:solidFill>
                <a:latin typeface="Arial"/>
                <a:ea typeface="Times New Roman"/>
              </a:rPr>
              <a:t>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m Spring Final Re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08ECC-B6B0-45B6-BF34-5C4B6ED56D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eaeaea"/>
                </a:solidFill>
                <a:uFillTx/>
                <a:latin typeface="Arial"/>
              </a:rPr>
              <a:t>Other Stuff to Review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subTitle"/>
          </p:nvPr>
        </p:nvSpPr>
        <p:spPr>
          <a:xfrm>
            <a:off x="228240" y="1447920"/>
            <a:ext cx="89154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Limiting reactants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Have vs. nee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m Spring Final Re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1196E-918B-4372-8630-02A3DCE933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eaeaea"/>
                </a:solidFill>
                <a:uFillTx/>
                <a:latin typeface="Arial"/>
              </a:rPr>
              <a:t>Other Stuff to Review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228240" y="1447920"/>
            <a:ext cx="89154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What is absolute zero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m Spring Final Re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1E423-1C81-4F62-B591-110DB6E5BE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eaeaea"/>
                </a:solidFill>
                <a:uFillTx/>
                <a:latin typeface="Arial"/>
              </a:rPr>
              <a:t>Other Stuff to Review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228240" y="1447920"/>
            <a:ext cx="89154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What is the solvent in hydrochloric acid? (Ans.: water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Larger part of the mixtur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m Spring Final Re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49C70-AA68-4785-B075-B7D322EE1F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eaeaea"/>
                </a:solidFill>
                <a:uFillTx/>
                <a:latin typeface="Arial"/>
              </a:rPr>
              <a:t>Other Stuff to Review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ubTitle"/>
          </p:nvPr>
        </p:nvSpPr>
        <p:spPr>
          <a:xfrm>
            <a:off x="228240" y="1447920"/>
            <a:ext cx="89154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Alkenes contain at least  one _______ bond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Alkynes contain at least one _______ bond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8T19:11:04Z</dcterms:created>
  <dc:creator>CFISD</dc:creator>
  <dc:description/>
  <dc:language>en-US</dc:language>
  <cp:lastModifiedBy>CFISD</cp:lastModifiedBy>
  <dcterms:modified xsi:type="dcterms:W3CDTF">2009-05-30T15:46:05Z</dcterms:modified>
  <cp:revision>154</cp:revision>
  <dc:subject/>
  <dc:title>Slide 1</dc:title>
</cp:coreProperties>
</file>